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95888"/>
        <c:axId val="47454669"/>
      </c:barChart>
      <c:catAx>
        <c:axId val="66995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4669"/>
        <c:crosses val="autoZero"/>
        <c:auto val="1"/>
        <c:lblAlgn val="ctr"/>
        <c:lblOffset val="100"/>
        <c:noMultiLvlLbl val="0"/>
      </c:catAx>
      <c:valAx>
        <c:axId val="47454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5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9AB-918E-45F2-89F4-13AFF02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105-8B56-46ED-8CF1-D39B28D7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583-DF75-4240-8093-DAEBB01B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629-D470-441D-8F1C-6B33209C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195-3215-43C3-8384-0B4D4151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D28-9721-4916-B81D-1B131BD0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1DF-42F4-41B2-8084-3B563B0E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242-F5D4-4A65-81E4-F84F8BCC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066-A9D3-48D9-8F6A-6BDC80DE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401-E889-4824-89BB-8AB8A08F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1EB-6929-48B3-83D8-E61A609E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520-AE12-4ED5-9E4D-8314FD86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83BD7-1623-45D0-8C35-964D5605E7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