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78665"/>
        <c:axId val="83138554"/>
      </c:barChart>
      <c:catAx>
        <c:axId val="47378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38554"/>
        <c:crosses val="autoZero"/>
        <c:auto val="1"/>
        <c:lblAlgn val="ctr"/>
        <c:lblOffset val="100"/>
        <c:noMultiLvlLbl val="0"/>
      </c:catAx>
      <c:valAx>
        <c:axId val="83138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78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6AD-B07F-4223-9534-64B59B84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CF4-37C8-456D-820E-5E414320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CAA-B5B5-463D-854E-9792AA4E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23A-77CD-4B2A-8CE5-05407162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C19-A40E-4238-9292-DFBC3CA8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142-831A-49FC-B3EB-45B998DC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CEE-773C-4A4D-9463-77B4BC8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52C-3ABB-4FDA-80AA-1C99C091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A40-489A-44D6-81FB-19FC8C97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CAA-1B54-46D0-8DF3-8C7F9ED5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0CD-95FD-4ED0-A3DE-04E7382C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8DB-2E7D-476C-9FAD-60CD664E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9073A-9435-466C-B356-4289CB90DE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