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33352"/>
        <c:axId val="24767852"/>
      </c:barChart>
      <c:catAx>
        <c:axId val="31533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7852"/>
        <c:crosses val="autoZero"/>
        <c:auto val="1"/>
        <c:lblAlgn val="ctr"/>
        <c:lblOffset val="100"/>
        <c:noMultiLvlLbl val="0"/>
      </c:catAx>
      <c:valAx>
        <c:axId val="24767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33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B70-CC7E-42B6-8DCD-F4ED6900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886-F419-477A-ACBC-D9129233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3BE-FCFD-40C5-B0E3-7E3E65D8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300-FF8B-4438-8FDF-430E7A23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067-9388-4DF2-AD0B-7DE958E3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9C3-B5D9-47C7-9A90-EFDAF98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0E9-56F0-4AA4-B82D-93961BF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F2F-1A20-4F5F-AB8D-B4EAAAF2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DB0-7306-48E8-BBC8-C8F96CB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D84-BFCE-4B27-BB70-2B4D266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FFF-EDF1-4DED-8EF0-D3DFE99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FA0-9A5B-488C-ADF0-D67D650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89015-1325-4BE3-A637-BCED9A310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