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22502"/>
        <c:axId val="19917846"/>
      </c:barChart>
      <c:catAx>
        <c:axId val="66822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17846"/>
        <c:crosses val="autoZero"/>
        <c:auto val="1"/>
        <c:lblAlgn val="ctr"/>
        <c:lblOffset val="100"/>
        <c:noMultiLvlLbl val="0"/>
      </c:catAx>
      <c:valAx>
        <c:axId val="19917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22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996-A5E2-4C87-BF2C-F59D8CEC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766-C376-4273-ACE4-012B807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B71-E5C1-4E55-90E7-03F612B8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BD9-B488-4AF8-9D54-4D96FBCE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15B-6563-4D0B-B5D1-F2F37244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9D3-5E02-4676-BC46-8E8EA31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1F6-1BF4-48ED-B666-698D796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E77-363F-4C51-B95E-E2BBE4EF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47F-77A0-4664-BAF9-D2EB248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793-FF5A-4860-BCE5-B877A5F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7EA-C070-4AD7-9811-7566CA4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93F-E955-4CF3-8452-33584B8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113F9-8026-4741-93DD-E0C2226B37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